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438-D3A5-4D9D-B4CE-14CDDFF4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569-0752-4A1E-B9E3-A275AB27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EB4-6911-4A83-8A99-406CCD6F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126-B3D9-4CF1-B5C8-446DDF00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DEB-8B06-43F7-AF8A-AE2C7244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9B7-6467-4667-986B-7896D1F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442-9CAF-478E-9B65-C257D43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39E-8B3C-4782-B98F-14C00B98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B1F-1AAB-4235-B8D1-DB8048CB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168-598C-4EE5-83B9-7233B47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74F-9941-4527-ADCD-B9EE4A1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D02-2389-482C-95EF-6410C44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062-2104-4133-9DCA-B7F6BF6AE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.JPG"/>
          <p:cNvPicPr/>
          <p:nvPr/>
        </p:nvPicPr>
        <p:blipFill>
          <a:blip r:embed="rId1"/>
          <a:stretch/>
        </p:blipFill>
        <p:spPr>
          <a:xfrm>
            <a:off x="25092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Выноска со стрелкой влево 8"/>
          <p:cNvSpPr/>
          <p:nvPr/>
        </p:nvSpPr>
        <p:spPr>
          <a:xfrm>
            <a:off x="2124000" y="0"/>
            <a:ext cx="4032360" cy="576360"/>
          </a:xfrm>
          <a:prstGeom prst="leftArrowCallout">
            <a:avLst>
              <a:gd name="adj1" fmla="val 12307"/>
              <a:gd name="adj2" fmla="val 25000"/>
              <a:gd name="adj3" fmla="val 25005"/>
              <a:gd name="adj4" fmla="val 64983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ти на официальный социологический портал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Выноска со стрелкой вверх 9"/>
          <p:cNvSpPr/>
          <p:nvPr/>
        </p:nvSpPr>
        <p:spPr>
          <a:xfrm>
            <a:off x="4788000" y="1700280"/>
            <a:ext cx="1439640" cy="2160360"/>
          </a:xfrm>
          <a:prstGeom prst="upArrowCallout">
            <a:avLst>
              <a:gd name="adj1" fmla="val 8492"/>
              <a:gd name="adj2" fmla="val 11667"/>
              <a:gd name="adj3" fmla="val 22461"/>
              <a:gd name="adj4" fmla="val 70041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раздел «Опрос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5.JPG"/>
          <p:cNvPicPr/>
          <p:nvPr/>
        </p:nvPicPr>
        <p:blipFill>
          <a:blip r:embed="rId1"/>
          <a:stretch/>
        </p:blipFill>
        <p:spPr>
          <a:xfrm>
            <a:off x="25092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Выноска со стрелкой вправо 5"/>
          <p:cNvSpPr/>
          <p:nvPr/>
        </p:nvSpPr>
        <p:spPr>
          <a:xfrm>
            <a:off x="2195640" y="1125360"/>
            <a:ext cx="2881080" cy="574920"/>
          </a:xfrm>
          <a:prstGeom prst="rightArrowCallout">
            <a:avLst>
              <a:gd name="adj1" fmla="val 25002"/>
              <a:gd name="adj2" fmla="val 34523"/>
              <a:gd name="adj3" fmla="val 24987"/>
              <a:gd name="adj4" fmla="val 64977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деле «Опр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6"/>
          <p:cNvSpPr/>
          <p:nvPr/>
        </p:nvSpPr>
        <p:spPr>
          <a:xfrm>
            <a:off x="2987640" y="1700280"/>
            <a:ext cx="71640" cy="2160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носка со стрелкой вправо 7"/>
          <p:cNvSpPr/>
          <p:nvPr/>
        </p:nvSpPr>
        <p:spPr>
          <a:xfrm>
            <a:off x="2195640" y="2060640"/>
            <a:ext cx="5184720" cy="576360"/>
          </a:xfrm>
          <a:prstGeom prst="rightArrowCallout">
            <a:avLst>
              <a:gd name="adj1" fmla="val 14112"/>
              <a:gd name="adj2" fmla="val 25000"/>
              <a:gd name="adj3" fmla="val 24988"/>
              <a:gd name="adj4" fmla="val 35912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подраздел «Анке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Выноска со стрелкой вниз 8"/>
          <p:cNvSpPr/>
          <p:nvPr/>
        </p:nvSpPr>
        <p:spPr>
          <a:xfrm>
            <a:off x="1116000" y="4869000"/>
            <a:ext cx="4226040" cy="1058760"/>
          </a:xfrm>
          <a:prstGeom prst="downArrowCallout">
            <a:avLst>
              <a:gd name="adj1" fmla="val 24986"/>
              <a:gd name="adj2" fmla="val 24984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из предложенного списка анкету, которая соответствует интересующему Вас муниципальному рай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6.JPG"/>
          <p:cNvPicPr/>
          <p:nvPr/>
        </p:nvPicPr>
        <p:blipFill>
          <a:blip r:embed="rId1"/>
          <a:stretch/>
        </p:blipFill>
        <p:spPr>
          <a:xfrm>
            <a:off x="25092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авая фигурная скобка 4"/>
          <p:cNvSpPr/>
          <p:nvPr/>
        </p:nvSpPr>
        <p:spPr>
          <a:xfrm>
            <a:off x="2195640" y="1844640"/>
            <a:ext cx="3024000" cy="4321080"/>
          </a:xfrm>
          <a:custGeom>
            <a:avLst/>
            <a:gdLst>
              <a:gd name="textAreaLeft" fmla="*/ 0 w 3024000"/>
              <a:gd name="textAreaRight" fmla="*/ 1091880 w 3024000"/>
              <a:gd name="textAreaTop" fmla="*/ 177480 h 4321080"/>
              <a:gd name="textAreaBottom" fmla="*/ 41436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0"/>
                  <a:pt x="10800" y="2840"/>
                </a:cubicBezTo>
                <a:lnTo>
                  <a:pt x="10800" y="8051"/>
                </a:lnTo>
                <a:cubicBezTo>
                  <a:pt x="10800" y="9471"/>
                  <a:pt x="16200" y="10891"/>
                  <a:pt x="21600" y="10891"/>
                </a:cubicBezTo>
                <a:cubicBezTo>
                  <a:pt x="16200" y="10891"/>
                  <a:pt x="10800" y="12311"/>
                  <a:pt x="10800" y="13731"/>
                </a:cubicBezTo>
                <a:lnTo>
                  <a:pt x="10800" y="18760"/>
                </a:lnTo>
                <a:cubicBezTo>
                  <a:pt x="10800" y="2018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5148360" y="3429000"/>
            <a:ext cx="2952720" cy="13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едложенного списка выбрать интересующее Вас муниципально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Выноска со стрелкой влево 5"/>
          <p:cNvSpPr/>
          <p:nvPr/>
        </p:nvSpPr>
        <p:spPr>
          <a:xfrm>
            <a:off x="5292720" y="5300640"/>
            <a:ext cx="3166920" cy="1081080"/>
          </a:xfrm>
          <a:prstGeom prst="leftArrowCallout">
            <a:avLst>
              <a:gd name="adj1" fmla="val 11455"/>
              <a:gd name="adj2" fmla="val 25000"/>
              <a:gd name="adj3" fmla="val 24995"/>
              <a:gd name="adj4" fmla="val 64983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участие в голосова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Выноска со стрелкой вниз 4"/>
          <p:cNvSpPr/>
          <p:nvPr/>
        </p:nvSpPr>
        <p:spPr>
          <a:xfrm>
            <a:off x="1332000" y="3500280"/>
            <a:ext cx="4032000" cy="1729080"/>
          </a:xfrm>
          <a:prstGeom prst="downArrowCallout">
            <a:avLst>
              <a:gd name="adj1" fmla="val 15482"/>
              <a:gd name="adj2" fmla="val 24992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Ваша анкета была принята и учтена в дальнейшем, необходимо ответить на все представленны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6:29:34Z</dcterms:created>
  <dc:creator>User</dc:creator>
  <dc:description/>
  <dc:language>en-US</dc:language>
  <cp:lastModifiedBy>User</cp:lastModifiedBy>
  <dcterms:modified xsi:type="dcterms:W3CDTF">2016-01-19T07:25:54Z</dcterms:modified>
  <cp:revision>7</cp:revision>
  <dc:subject/>
  <dc:title>Слайд 1</dc:title>
</cp:coreProperties>
</file>